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F91E-4D16-4D7B-BF73-546A35D5CA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stribucion reducida, categoria según la UICN, principales amenazas se retroalimentan. La planta está adaptada al sustrato donde vive, el problema es el ga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D85-E316-41A6-8F37-B1D0FA7B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1B5-F5FE-432E-9203-1C5C49D7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263-3C91-498F-94C5-7D620D1C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A99-7F8F-4164-9F80-41C00030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5A3-2565-4460-83D2-55643363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97A-75E4-4468-9C9E-5D0622D3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87C-7EB9-444A-8B9C-39EB2894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D04-82B0-42DD-80F8-BD53AC00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103-3CC7-4216-9337-D6EC991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11A-DBA7-47C9-82BA-C3CA0D6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6AF-BB26-40BD-A31A-AF1FB4E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663-E4BF-4BD1-B180-D259860E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C40B-724A-4D53-B51A-5433AE6C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drimasd.org/madridporlaciencia/Feria_VIII/gestion/files/img/stands/19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4140360" y="5805360"/>
            <a:ext cx="46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.O. Restauración de Eco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427640" y="6093000"/>
            <a:ext cx="4463640" cy="549000"/>
            <a:chOff x="4427640" y="6093000"/>
            <a:chExt cx="4463640" cy="549000"/>
          </a:xfrm>
        </p:grpSpPr>
        <p:pic>
          <p:nvPicPr>
            <p:cNvPr id="51" name="Picture 10" descr="Ver imagen en tamaño completo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96120" y="6144480"/>
              <a:ext cx="182736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4" descr="75%2520-%2520Escudo_UCM"/>
            <p:cNvPicPr/>
            <p:nvPr/>
          </p:nvPicPr>
          <p:blipFill>
            <a:blip r:embed="rId4"/>
            <a:stretch/>
          </p:blipFill>
          <p:spPr>
            <a:xfrm>
              <a:off x="5682960" y="6149520"/>
              <a:ext cx="558000" cy="4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6" descr="upm"/>
            <p:cNvPicPr/>
            <p:nvPr/>
          </p:nvPicPr>
          <p:blipFill>
            <a:blip r:embed="rId5"/>
            <a:stretch/>
          </p:blipFill>
          <p:spPr>
            <a:xfrm>
              <a:off x="8333640" y="6093000"/>
              <a:ext cx="55764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8" descr="Ver imagen en tamaño completo"/>
            <p:cNvPicPr/>
            <p:nvPr/>
          </p:nvPicPr>
          <p:blipFill>
            <a:blip r:embed="rId6"/>
            <a:stretch/>
          </p:blipFill>
          <p:spPr>
            <a:xfrm>
              <a:off x="4427640" y="6144480"/>
              <a:ext cx="1116000" cy="46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0" y="4365720"/>
            <a:ext cx="9144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4797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Restitución de poblaciones de </a:t>
            </a:r>
            <a:r>
              <a:rPr b="0" i="1" lang="es-ES" sz="3200" spc="-1" strike="noStrike">
                <a:solidFill>
                  <a:srgbClr val="000000"/>
                </a:solidFill>
                <a:latin typeface="Cambria"/>
              </a:rPr>
              <a:t>Jurinea fontqu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5877000"/>
            <a:ext cx="3168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berto Vázquez de Castro Nog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ulia Chacón Lab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30132" t="27399" r="33244" b="40484"/>
          <a:stretch/>
        </p:blipFill>
        <p:spPr>
          <a:xfrm>
            <a:off x="3419640" y="1197000"/>
            <a:ext cx="446544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5940360" y="1773360"/>
            <a:ext cx="302436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ados sin restit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rcRect l="28346" t="34021" r="28529" b="28169"/>
          <a:stretch/>
        </p:blipFill>
        <p:spPr>
          <a:xfrm>
            <a:off x="2771640" y="3716280"/>
            <a:ext cx="525780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1692360" y="2997360"/>
            <a:ext cx="1512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0,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28346" t="34021" r="28842" b="28003"/>
          <a:stretch/>
        </p:blipFill>
        <p:spPr>
          <a:xfrm>
            <a:off x="1908000" y="1052640"/>
            <a:ext cx="5220000" cy="2894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>
            <a:lum contrast="6000"/>
          </a:blip>
          <a:srcRect l="28647" t="42170" r="31499" b="33275"/>
          <a:stretch/>
        </p:blipFill>
        <p:spPr>
          <a:xfrm>
            <a:off x="2124000" y="4076640"/>
            <a:ext cx="4859280" cy="1871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08000" y="4869000"/>
            <a:ext cx="331164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4437000"/>
            <a:ext cx="720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4581360"/>
            <a:ext cx="50328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6165720"/>
            <a:ext cx="201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rbiv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6021360"/>
            <a:ext cx="360036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fenómenos inciden sobre cada transi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88000" y="407664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De qué modo inci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uál es la K de herbívo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28948" t="34003" r="29128" b="27252"/>
          <a:stretch/>
        </p:blipFill>
        <p:spPr>
          <a:xfrm>
            <a:off x="2411280" y="1557360"/>
            <a:ext cx="5112000" cy="2952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076720" y="5013360"/>
            <a:ext cx="31672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0.0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. Poblacional de 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5157720"/>
            <a:ext cx="1944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09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29533" t="33086" r="28529" b="27228"/>
          <a:stretch/>
        </p:blipFill>
        <p:spPr>
          <a:xfrm>
            <a:off x="2843280" y="1773360"/>
            <a:ext cx="5113440" cy="3024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8560" y="5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5300640"/>
            <a:ext cx="5111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resultado de un refuerz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viduos vegetativos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guimiento y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1197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1628640"/>
            <a:ext cx="6408720" cy="231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imiento del va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aluar el éxito del vallado de pro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nsos anuales de la población (nº de individuos, clases de edad, tasa de reclutami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 genético para evaluar la variabilidad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r a excursionistas de la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2124000" y="1197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148428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¡Gracia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5900" r="25002" b="72067"/>
          <a:stretch/>
        </p:blipFill>
        <p:spPr>
          <a:xfrm rot="16200000">
            <a:off x="-2673000" y="2673360"/>
            <a:ext cx="685800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276720" y="549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4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981000"/>
            <a:ext cx="6480360" cy="527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Causas y motiv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Características destacables de la espe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Tipo de restitución y 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Selección de la lo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Selección del material de partida y tipo de individu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Seguimiento 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195640" y="189000"/>
            <a:ext cx="63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usas y motivaciones para realizar una restit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162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1628640"/>
            <a:ext cx="684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demismo de Sierra Mágina (Jaén) con una única población incluida en el Parque Natural de Sierra M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43280" y="2637000"/>
            <a:ext cx="4714560" cy="2746080"/>
            <a:chOff x="2843280" y="2637000"/>
            <a:chExt cx="4714560" cy="274608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43280" y="2637000"/>
              <a:ext cx="443304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5419440" y="3844080"/>
              <a:ext cx="2138400" cy="153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1763640" y="2421000"/>
            <a:ext cx="7166160" cy="27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INCIPALES AMENAZ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nad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isoteo, nitrificación de sustr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etencia con plantas nitrófi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estabilidad del sustra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esarraigo y enterramiento de individu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eccionismo en menor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cl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35280" y="5300640"/>
            <a:ext cx="6840360" cy="1294200"/>
            <a:chOff x="1835280" y="5300640"/>
            <a:chExt cx="6840360" cy="1294200"/>
          </a:xfrm>
        </p:grpSpPr>
        <p:sp>
          <p:nvSpPr>
            <p:cNvPr id="71" name=""/>
            <p:cNvSpPr/>
            <p:nvPr/>
          </p:nvSpPr>
          <p:spPr>
            <a:xfrm>
              <a:off x="1835280" y="5300640"/>
              <a:ext cx="6840360" cy="12942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tegoría de protección UICN: “En peligro crítico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obabilidades de extinción del 41% y 100% en 20 y 100 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e-IL" sz="2400" spc="-1" strike="noStrike">
                  <a:solidFill>
                    <a:srgbClr val="000000"/>
                  </a:solidFill>
                  <a:latin typeface="Arial"/>
                </a:rPr>
                <a:t>ג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= 0.7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84720" y="616572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racterísticas destacables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Jurinea fontqu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1125360"/>
            <a:ext cx="6696000" cy="33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itud: 1.650-1.8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ábitat: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or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gleras y lugares rocosos, en pendientes pronunciadas. Sustrato calcá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tipo: Hemicriptófito de porte rastrero con roseta ba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logía reproductiva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óg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ración: (V)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uctificación: 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esión sexual: Hermafrod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nización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ntomóf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ersión: Anemocora vi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roducción asexual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z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ngevidad: 4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4797360"/>
            <a:ext cx="7056360" cy="1894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ólo e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%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el po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aparentemen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5%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e las fl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cada capítulo produ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u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ersión de aquenios poco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e ha detectado germinación de la planta en el medio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8468" r="0" b="0"/>
          <a:stretch/>
        </p:blipFill>
        <p:spPr>
          <a:xfrm>
            <a:off x="6227640" y="2781360"/>
            <a:ext cx="22687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racterísticas destacables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Jurinea fontqu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1413000"/>
            <a:ext cx="6553440" cy="1059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oblación cuenta con unos 2231 individuos (año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única población fragmentada en dos núcleos que distan menos de 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3068640"/>
            <a:ext cx="107964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3068640"/>
            <a:ext cx="107928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án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852640"/>
            <a:ext cx="158436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a estado vege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59640" y="2997360"/>
            <a:ext cx="172728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os repro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05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32360" y="3933720"/>
            <a:ext cx="1297080" cy="863640"/>
            <a:chOff x="4932360" y="3933720"/>
            <a:chExt cx="1297080" cy="863640"/>
          </a:xfrm>
        </p:grpSpPr>
        <p:sp>
          <p:nvSpPr>
            <p:cNvPr id="91" name=""/>
            <p:cNvSpPr/>
            <p:nvPr/>
          </p:nvSpPr>
          <p:spPr>
            <a:xfrm>
              <a:off x="4932360" y="3933720"/>
              <a:ext cx="1297080" cy="863640"/>
            </a:xfrm>
            <a:prstGeom prst="upArrowCallout">
              <a:avLst>
                <a:gd name="adj1" fmla="val 37550"/>
                <a:gd name="adj2" fmla="val 37547"/>
                <a:gd name="adj3" fmla="val 16667"/>
                <a:gd name="adj4" fmla="val 6666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5440" y="4292280"/>
              <a:ext cx="1152360" cy="398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050920" y="5116680"/>
            <a:ext cx="669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spersión de la especie se encuentra muy restringida por la  especificidad del hábitat y sus dificultades de dispersión de los aque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más presenta una escasa plasticidad fenotí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ipo de restitución y just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1557360"/>
            <a:ext cx="4032360" cy="1224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jo reclu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cos individuos re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% Polen v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1989000"/>
            <a:ext cx="252108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27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1916280"/>
            <a:ext cx="360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3213000"/>
            <a:ext cx="4248360" cy="1620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de disper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ja plasticidad fenotí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bles efectos del cambio cl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idad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808800" y="4730040"/>
            <a:ext cx="360360" cy="561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5229360"/>
            <a:ext cx="280836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CIÓN EN UNA ZONA 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6000" y="4221000"/>
            <a:ext cx="1223640" cy="648000"/>
          </a:xfrm>
          <a:custGeom>
            <a:avLst/>
            <a:gdLst>
              <a:gd name="textAreaLeft" fmla="*/ 41760 w 1223640"/>
              <a:gd name="textAreaRight" fmla="*/ 1181880 w 122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40777" h="21600">
                <a:moveTo>
                  <a:pt x="0" y="0"/>
                </a:moveTo>
                <a:lnTo>
                  <a:pt x="40777" y="0"/>
                </a:lnTo>
                <a:lnTo>
                  <a:pt x="40777" y="21600"/>
                </a:lnTo>
                <a:lnTo>
                  <a:pt x="0" y="21600"/>
                </a:lnTo>
                <a:close/>
              </a:path>
              <a:path fill="lightenLess" w="40777" h="21600">
                <a:moveTo>
                  <a:pt x="0" y="0"/>
                </a:moveTo>
                <a:lnTo>
                  <a:pt x="40777" y="0"/>
                </a:lnTo>
                <a:lnTo>
                  <a:pt x="39377" y="1400"/>
                </a:lnTo>
                <a:lnTo>
                  <a:pt x="1400" y="1400"/>
                </a:lnTo>
                <a:close/>
              </a:path>
              <a:path fill="darken" w="40777" h="21600">
                <a:moveTo>
                  <a:pt x="40777" y="0"/>
                </a:moveTo>
                <a:lnTo>
                  <a:pt x="40777" y="21600"/>
                </a:lnTo>
                <a:lnTo>
                  <a:pt x="39377" y="20200"/>
                </a:lnTo>
                <a:lnTo>
                  <a:pt x="39377" y="1400"/>
                </a:lnTo>
                <a:close/>
              </a:path>
              <a:path fill="darkenLess" w="40777" h="21600">
                <a:moveTo>
                  <a:pt x="40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77" y="20200"/>
                </a:lnTo>
                <a:close/>
              </a:path>
              <a:path fill="lighten" w="40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77" h="21600">
                <a:moveTo>
                  <a:pt x="2038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0777" h="21600">
                <a:moveTo>
                  <a:pt x="21494" y="14281"/>
                </a:moveTo>
                <a:lnTo>
                  <a:pt x="21494" y="12323"/>
                </a:lnTo>
                <a:cubicBezTo>
                  <a:pt x="21494" y="11496"/>
                  <a:pt x="21825" y="10800"/>
                  <a:pt x="22425" y="10800"/>
                </a:cubicBezTo>
                <a:cubicBezTo>
                  <a:pt x="23557" y="10800"/>
                  <a:pt x="24453" y="9434"/>
                  <a:pt x="24453" y="7849"/>
                </a:cubicBezTo>
                <a:cubicBezTo>
                  <a:pt x="24453" y="5534"/>
                  <a:pt x="22599" y="3794"/>
                  <a:pt x="20389" y="3794"/>
                </a:cubicBezTo>
                <a:cubicBezTo>
                  <a:pt x="18178" y="3794"/>
                  <a:pt x="16507" y="5534"/>
                  <a:pt x="16507" y="7849"/>
                </a:cubicBezTo>
                <a:lnTo>
                  <a:pt x="18361" y="7849"/>
                </a:lnTo>
                <a:cubicBezTo>
                  <a:pt x="18361" y="6709"/>
                  <a:pt x="19283" y="5821"/>
                  <a:pt x="20389" y="5821"/>
                </a:cubicBezTo>
                <a:cubicBezTo>
                  <a:pt x="21494" y="5821"/>
                  <a:pt x="22425" y="6709"/>
                  <a:pt x="22425" y="7849"/>
                </a:cubicBezTo>
                <a:cubicBezTo>
                  <a:pt x="22425" y="8589"/>
                  <a:pt x="21955" y="9320"/>
                  <a:pt x="21494" y="9320"/>
                </a:cubicBezTo>
                <a:cubicBezTo>
                  <a:pt x="20389" y="9320"/>
                  <a:pt x="19283" y="10800"/>
                  <a:pt x="19283" y="12323"/>
                </a:cubicBezTo>
                <a:lnTo>
                  <a:pt x="19283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582560" y="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765000"/>
            <a:ext cx="6912000" cy="156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eguir que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e hasta valor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ó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eguir una probabilidad de extinción del 40% en 50 años (ahora estimada en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r a la planta de la categoría CR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3052800"/>
            <a:ext cx="2160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3860640"/>
            <a:ext cx="6913440" cy="27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predictivo de localidades posibles (Modelo de Nicho ecoló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histórico* (sólo se tiene conocimiento de esta pobl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biológ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cl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23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lección de la lo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2924280"/>
            <a:ext cx="25923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3284640"/>
            <a:ext cx="2808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isma lo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124000" y="18900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lección del material de partida y tipo de individuos emple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197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5084640"/>
            <a:ext cx="75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5661000"/>
            <a:ext cx="6553440" cy="785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os en estado vege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menor medida reproductores de la clase 1 (&lt;13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515772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sándonos en la modelización demográ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50920" y="1413000"/>
            <a:ext cx="5545440" cy="642600"/>
            <a:chOff x="2050920" y="1413000"/>
            <a:chExt cx="5545440" cy="642600"/>
          </a:xfrm>
        </p:grpSpPr>
        <p:sp>
          <p:nvSpPr>
            <p:cNvPr id="120" name=""/>
            <p:cNvSpPr/>
            <p:nvPr/>
          </p:nvSpPr>
          <p:spPr>
            <a:xfrm>
              <a:off x="2050920" y="1413000"/>
              <a:ext cx="16574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roducción veget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67280" y="1629000"/>
              <a:ext cx="3529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estimada por el mo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80000" y="1773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050920" y="2565360"/>
            <a:ext cx="6337440" cy="916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lección de semillas estableciendo gradientes para obtener la máxima diversidad genética presente en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2276640"/>
            <a:ext cx="1368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82560" y="3645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4221000"/>
            <a:ext cx="62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 en vivero con sustrato de la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ación estratificada y en oto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427640" y="2781360"/>
            <a:ext cx="4295520" cy="3500280"/>
            <a:chOff x="4427640" y="2781360"/>
            <a:chExt cx="4295520" cy="3500280"/>
          </a:xfrm>
        </p:grpSpPr>
        <p:sp>
          <p:nvSpPr>
            <p:cNvPr id="130" name=""/>
            <p:cNvSpPr/>
            <p:nvPr/>
          </p:nvSpPr>
          <p:spPr>
            <a:xfrm>
              <a:off x="7650000" y="552456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6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75040" y="5524560"/>
              <a:ext cx="1074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4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01880" y="552456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7640" y="5524560"/>
              <a:ext cx="10742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0000" y="4768920"/>
              <a:ext cx="107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2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75040" y="4768920"/>
              <a:ext cx="10746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2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01880" y="4768920"/>
              <a:ext cx="107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7640" y="4768920"/>
              <a:ext cx="10742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0000" y="401184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3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75040" y="4011840"/>
              <a:ext cx="1074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4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01880" y="401184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7640" y="4011840"/>
              <a:ext cx="10742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50000" y="3213000"/>
              <a:ext cx="10728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75040" y="3213000"/>
              <a:ext cx="10746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1880" y="3213000"/>
              <a:ext cx="10728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7640" y="3213000"/>
              <a:ext cx="107424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7640" y="3213000"/>
              <a:ext cx="42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27640" y="401184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7640" y="476892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7640" y="552456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27640" y="6281640"/>
              <a:ext cx="42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27640" y="3213000"/>
              <a:ext cx="0" cy="306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188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7504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5000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23160" y="3213000"/>
              <a:ext cx="0" cy="306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560" y="278136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z de transición me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979640" y="2708280"/>
            <a:ext cx="18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0,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1484280"/>
            <a:ext cx="244800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= (1562, 513, 1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1413000"/>
            <a:ext cx="1513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2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1125360"/>
            <a:ext cx="216072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1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2= 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3=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413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1484280"/>
            <a:ext cx="287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27640" y="2781360"/>
            <a:ext cx="4295520" cy="3500280"/>
            <a:chOff x="4427640" y="2781360"/>
            <a:chExt cx="4295520" cy="3500280"/>
          </a:xfrm>
        </p:grpSpPr>
        <p:sp>
          <p:nvSpPr>
            <p:cNvPr id="164" name=""/>
            <p:cNvSpPr/>
            <p:nvPr/>
          </p:nvSpPr>
          <p:spPr>
            <a:xfrm>
              <a:off x="7650000" y="552456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3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75040" y="5524560"/>
              <a:ext cx="1074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2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01880" y="552456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1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27640" y="5524560"/>
              <a:ext cx="10742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50000" y="4768920"/>
              <a:ext cx="107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08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75040" y="4768920"/>
              <a:ext cx="10746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0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1880" y="4768920"/>
              <a:ext cx="107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6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7640" y="4768920"/>
              <a:ext cx="10742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50000" y="401184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75040" y="4011840"/>
              <a:ext cx="1074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23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01880" y="401184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29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7640" y="4011840"/>
              <a:ext cx="10742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50000" y="3213000"/>
              <a:ext cx="10728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75040" y="3213000"/>
              <a:ext cx="10746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1880" y="3213000"/>
              <a:ext cx="10728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27640" y="3213000"/>
              <a:ext cx="107424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27640" y="3213000"/>
              <a:ext cx="42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27640" y="401184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7640" y="476892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552456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27640" y="6281640"/>
              <a:ext cx="42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27640" y="3213000"/>
              <a:ext cx="0" cy="306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188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7504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5000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23160" y="3213000"/>
              <a:ext cx="0" cy="306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14560" y="278136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z de desviación estánd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9:10:33Z</dcterms:created>
  <dc:creator>Julia</dc:creator>
  <dc:description/>
  <dc:language>en-US</dc:language>
  <cp:lastModifiedBy>Julia</cp:lastModifiedBy>
  <dcterms:modified xsi:type="dcterms:W3CDTF">2009-04-24T16:13:34Z</dcterms:modified>
  <cp:revision>25</cp:revision>
  <dc:subject/>
  <dc:title>Diapositiva 1</dc:title>
</cp:coreProperties>
</file>